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image10.png" ContentType="image/png"/>
  <Override PartName="/ppt/media/image11.png" ContentType="image/png"/>
  <Override PartName="/ppt/media/wind.wav" ContentType="audio/x-wav"/>
  <Override PartName="/ppt/media/explode.wav" ContentType="audio/x-wav"/>
  <Override PartName="/ppt/media/image1.jpeg" ContentType="image/jpeg"/>
  <Override PartName="/ppt/media/image2.jpeg" ContentType="image/jpeg"/>
  <Override PartName="/ppt/media/Thunk.wav" ContentType="audio/x-wav"/>
  <Override PartName="/ppt/media/image9.png" ContentType="image/png"/>
  <Override PartName="/ppt/media/Beep.wav" ContentType="audio/x-wav"/>
  <Override PartName="/ppt/media/image3.jpeg" ContentType="image/jpeg"/>
  <Override PartName="/ppt/media/image4.jpeg" ContentType="image/jpeg"/>
  <Override PartName="/ppt/media/image8.jpeg" ContentType="image/jpeg"/>
  <Override PartName="/ppt/media/image7.jpeg" ContentType="image/jpeg"/>
  <Override PartName="/ppt/media/voltage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6FD-4AFB-4DB7-AE64-FFDABFC8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B9E-6E57-4933-8746-F2B358E9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0A8-ABFA-45D2-8198-BB6243CF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F98-4B47-4ED5-B73F-3BD8D926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45F-F2EC-4EDF-B3EC-C4457C6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0AC-7CDA-4F3C-AABD-DFF51E5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ECA-E70E-4B8D-BE01-0547C4F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4BB-B6FF-4EA7-ACB9-2617EA41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54A-0B88-498D-87F2-3187DEC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1DC-7B43-473E-A4F0-8B75039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121-ADDA-4547-AD20-84C76CA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1E3-A66D-457F-9304-1EDBFDB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7BC-478A-4BF0-A51B-6AFF3564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Thunk.wav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0F7-CD71-4B13-A60D-F89FA99AC629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13372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844640"/>
            <a:ext cx="3816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3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able to use the calculator to calculate values using scientific 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390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1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20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233800" cy="214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1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76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1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1341360"/>
            <a:ext cx="280836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39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1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70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701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701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95520" y="452520"/>
            <a:ext cx="5952960" cy="59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39000" y="469800"/>
            <a:ext cx="196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ckbook"/>
              </a:rPr>
              <a:t>You ar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841720" y="843120"/>
            <a:ext cx="1165320" cy="384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30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heckbook"/>
              </a:rPr>
              <a:t>World Popul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450 000 000 = 6.45 billion = 6.4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01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9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0494-4FB4-489C-AA70-DDAEB57C5B34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324000" y="170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 can use scientific notation on the calculator. Depending on your calculator you will use one of the following but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1094040" y="2852640"/>
            <a:ext cx="6422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GB" sz="4400" spc="-1" strike="noStrike" baseline="30000">
                <a:solidFill>
                  <a:srgbClr val="ffffff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7"/>
          <p:cNvSpPr/>
          <p:nvPr/>
        </p:nvSpPr>
        <p:spPr>
          <a:xfrm>
            <a:off x="2430720" y="2852640"/>
            <a:ext cx="99288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4102560" y="2852640"/>
            <a:ext cx="6501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 3"/>
                <a:ea typeface="Wingdings 3"/>
              </a:rPr>
              <a:t>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8"/>
          <p:cNvSpPr/>
          <p:nvPr/>
        </p:nvSpPr>
        <p:spPr>
          <a:xfrm>
            <a:off x="5490000" y="2852640"/>
            <a:ext cx="11577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9"/>
          <p:cNvSpPr/>
          <p:nvPr/>
        </p:nvSpPr>
        <p:spPr>
          <a:xfrm>
            <a:off x="7510680" y="2852640"/>
            <a:ext cx="8024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1569240" y="393372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ou may have to use the shift bu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1192680" y="458136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nter the 5.4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into your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400560" y="5319720"/>
            <a:ext cx="43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  P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9"/>
          <p:cNvGrpSpPr/>
          <p:nvPr/>
        </p:nvGrpSpPr>
        <p:grpSpPr>
          <a:xfrm>
            <a:off x="2498760" y="5735520"/>
            <a:ext cx="495360" cy="457200"/>
            <a:chOff x="2498760" y="5735520"/>
            <a:chExt cx="495360" cy="457200"/>
          </a:xfrm>
        </p:grpSpPr>
        <p:sp>
          <p:nvSpPr>
            <p:cNvPr id="167" name="Rectangle 20"/>
            <p:cNvSpPr/>
            <p:nvPr/>
          </p:nvSpPr>
          <p:spPr>
            <a:xfrm>
              <a:off x="249876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2610360" y="577692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4"/>
          <p:cNvGrpSpPr/>
          <p:nvPr/>
        </p:nvGrpSpPr>
        <p:grpSpPr>
          <a:xfrm>
            <a:off x="3106800" y="5735520"/>
            <a:ext cx="495360" cy="457200"/>
            <a:chOff x="3106800" y="5735520"/>
            <a:chExt cx="495360" cy="457200"/>
          </a:xfrm>
        </p:grpSpPr>
        <p:sp>
          <p:nvSpPr>
            <p:cNvPr id="170" name="Rectangle 23"/>
            <p:cNvSpPr/>
            <p:nvPr/>
          </p:nvSpPr>
          <p:spPr>
            <a:xfrm>
              <a:off x="310680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7"/>
            <p:cNvSpPr/>
            <p:nvPr/>
          </p:nvSpPr>
          <p:spPr>
            <a:xfrm>
              <a:off x="3313080" y="593712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5"/>
          <p:cNvGrpSpPr/>
          <p:nvPr/>
        </p:nvGrpSpPr>
        <p:grpSpPr>
          <a:xfrm>
            <a:off x="3713040" y="5735520"/>
            <a:ext cx="495360" cy="457200"/>
            <a:chOff x="3713040" y="5735520"/>
            <a:chExt cx="495360" cy="457200"/>
          </a:xfrm>
        </p:grpSpPr>
        <p:sp>
          <p:nvSpPr>
            <p:cNvPr id="173" name="Rectangle 26"/>
            <p:cNvSpPr/>
            <p:nvPr/>
          </p:nvSpPr>
          <p:spPr>
            <a:xfrm>
              <a:off x="371304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7"/>
            <p:cNvSpPr/>
            <p:nvPr/>
          </p:nvSpPr>
          <p:spPr>
            <a:xfrm>
              <a:off x="3819960" y="576576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9"/>
          <p:cNvGrpSpPr/>
          <p:nvPr/>
        </p:nvGrpSpPr>
        <p:grpSpPr>
          <a:xfrm>
            <a:off x="5219640" y="5734080"/>
            <a:ext cx="495360" cy="457200"/>
            <a:chOff x="5219640" y="5734080"/>
            <a:chExt cx="495360" cy="457200"/>
          </a:xfrm>
        </p:grpSpPr>
        <p:sp>
          <p:nvSpPr>
            <p:cNvPr id="176" name="Rectangle 50"/>
            <p:cNvSpPr/>
            <p:nvPr/>
          </p:nvSpPr>
          <p:spPr>
            <a:xfrm>
              <a:off x="5219640" y="573408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303520" y="578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356000" y="5734080"/>
            <a:ext cx="720720" cy="457200"/>
            <a:chOff x="4356000" y="5734080"/>
            <a:chExt cx="720720" cy="457200"/>
          </a:xfrm>
        </p:grpSpPr>
        <p:sp>
          <p:nvSpPr>
            <p:cNvPr id="179" name="Rectangle 26"/>
            <p:cNvSpPr/>
            <p:nvPr/>
          </p:nvSpPr>
          <p:spPr>
            <a:xfrm>
              <a:off x="4356000" y="573408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7"/>
            <p:cNvSpPr/>
            <p:nvPr/>
          </p:nvSpPr>
          <p:spPr>
            <a:xfrm>
              <a:off x="4471560" y="576432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892F-2664-46AA-959C-BDF4E5D93989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6"/>
          <p:cNvSpPr/>
          <p:nvPr/>
        </p:nvSpPr>
        <p:spPr>
          <a:xfrm>
            <a:off x="2224440" y="1928880"/>
            <a:ext cx="6422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GB" sz="4400" spc="-1" strike="noStrike" baseline="30000">
                <a:solidFill>
                  <a:srgbClr val="ffffff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7"/>
          <p:cNvSpPr/>
          <p:nvPr/>
        </p:nvSpPr>
        <p:spPr>
          <a:xfrm>
            <a:off x="3135600" y="1928880"/>
            <a:ext cx="99288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8"/>
          <p:cNvSpPr/>
          <p:nvPr/>
        </p:nvSpPr>
        <p:spPr>
          <a:xfrm>
            <a:off x="5323320" y="1928880"/>
            <a:ext cx="11577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9"/>
          <p:cNvSpPr/>
          <p:nvPr/>
        </p:nvSpPr>
        <p:spPr>
          <a:xfrm>
            <a:off x="6797880" y="1928880"/>
            <a:ext cx="8024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0"/>
          <p:cNvSpPr/>
          <p:nvPr/>
        </p:nvSpPr>
        <p:spPr>
          <a:xfrm>
            <a:off x="4386600" y="1928880"/>
            <a:ext cx="6501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 3"/>
                <a:ea typeface="Wingdings 3"/>
              </a:rPr>
              <a:t>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1"/>
          <p:cNvSpPr/>
          <p:nvPr/>
        </p:nvSpPr>
        <p:spPr>
          <a:xfrm>
            <a:off x="1775880" y="273060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ou may have to use the shift bu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2"/>
          <p:cNvSpPr/>
          <p:nvPr/>
        </p:nvSpPr>
        <p:spPr>
          <a:xfrm>
            <a:off x="1226160" y="3325680"/>
            <a:ext cx="33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xample: 6.25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-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451680" y="37432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9"/>
          <p:cNvGrpSpPr/>
          <p:nvPr/>
        </p:nvGrpSpPr>
        <p:grpSpPr>
          <a:xfrm>
            <a:off x="2552760" y="4159080"/>
            <a:ext cx="495360" cy="457200"/>
            <a:chOff x="2552760" y="4159080"/>
            <a:chExt cx="495360" cy="457200"/>
          </a:xfrm>
        </p:grpSpPr>
        <p:sp>
          <p:nvSpPr>
            <p:cNvPr id="196" name="Rectangle 20"/>
            <p:cNvSpPr/>
            <p:nvPr/>
          </p:nvSpPr>
          <p:spPr>
            <a:xfrm>
              <a:off x="255276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1"/>
            <p:cNvSpPr/>
            <p:nvPr/>
          </p:nvSpPr>
          <p:spPr>
            <a:xfrm>
              <a:off x="2664360" y="420048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5"/>
          <p:cNvGrpSpPr/>
          <p:nvPr/>
        </p:nvGrpSpPr>
        <p:grpSpPr>
          <a:xfrm>
            <a:off x="3767040" y="4159080"/>
            <a:ext cx="495360" cy="457200"/>
            <a:chOff x="3767040" y="4159080"/>
            <a:chExt cx="495360" cy="457200"/>
          </a:xfrm>
        </p:grpSpPr>
        <p:sp>
          <p:nvSpPr>
            <p:cNvPr id="199" name="Rectangle 26"/>
            <p:cNvSpPr/>
            <p:nvPr/>
          </p:nvSpPr>
          <p:spPr>
            <a:xfrm>
              <a:off x="376704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3873960" y="418932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9"/>
          <p:cNvGrpSpPr/>
          <p:nvPr/>
        </p:nvGrpSpPr>
        <p:grpSpPr>
          <a:xfrm>
            <a:off x="5867280" y="4149720"/>
            <a:ext cx="495360" cy="457200"/>
            <a:chOff x="5867280" y="4149720"/>
            <a:chExt cx="495360" cy="457200"/>
          </a:xfrm>
        </p:grpSpPr>
        <p:sp>
          <p:nvSpPr>
            <p:cNvPr id="202" name="Rectangle 50"/>
            <p:cNvSpPr/>
            <p:nvPr/>
          </p:nvSpPr>
          <p:spPr>
            <a:xfrm>
              <a:off x="5867280" y="414972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1"/>
            <p:cNvSpPr/>
            <p:nvPr/>
          </p:nvSpPr>
          <p:spPr>
            <a:xfrm>
              <a:off x="5957640" y="419580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86"/>
          <p:cNvGrpSpPr/>
          <p:nvPr/>
        </p:nvGrpSpPr>
        <p:grpSpPr>
          <a:xfrm>
            <a:off x="3160800" y="4159080"/>
            <a:ext cx="495360" cy="457200"/>
            <a:chOff x="3160800" y="4159080"/>
            <a:chExt cx="495360" cy="457200"/>
          </a:xfrm>
        </p:grpSpPr>
        <p:sp>
          <p:nvSpPr>
            <p:cNvPr id="205" name="Rectangle 23"/>
            <p:cNvSpPr/>
            <p:nvPr/>
          </p:nvSpPr>
          <p:spPr>
            <a:xfrm>
              <a:off x="316080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7"/>
            <p:cNvSpPr/>
            <p:nvPr/>
          </p:nvSpPr>
          <p:spPr>
            <a:xfrm>
              <a:off x="3367080" y="436068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46"/>
          <p:cNvSpPr/>
          <p:nvPr/>
        </p:nvSpPr>
        <p:spPr>
          <a:xfrm>
            <a:off x="1188360" y="477684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xample: 8.31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484800" y="51944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9"/>
          <p:cNvGrpSpPr/>
          <p:nvPr/>
        </p:nvGrpSpPr>
        <p:grpSpPr>
          <a:xfrm>
            <a:off x="6443640" y="4149720"/>
            <a:ext cx="495360" cy="457200"/>
            <a:chOff x="6443640" y="4149720"/>
            <a:chExt cx="495360" cy="457200"/>
          </a:xfrm>
        </p:grpSpPr>
        <p:sp>
          <p:nvSpPr>
            <p:cNvPr id="210" name="Rectangle 50"/>
            <p:cNvSpPr/>
            <p:nvPr/>
          </p:nvSpPr>
          <p:spPr>
            <a:xfrm>
              <a:off x="6443640" y="414972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1"/>
            <p:cNvSpPr/>
            <p:nvPr/>
          </p:nvSpPr>
          <p:spPr>
            <a:xfrm>
              <a:off x="6527520" y="4195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9"/>
          <p:cNvGrpSpPr/>
          <p:nvPr/>
        </p:nvGrpSpPr>
        <p:grpSpPr>
          <a:xfrm>
            <a:off x="4343400" y="4159080"/>
            <a:ext cx="495360" cy="457200"/>
            <a:chOff x="4343400" y="4159080"/>
            <a:chExt cx="495360" cy="457200"/>
          </a:xfrm>
        </p:grpSpPr>
        <p:sp>
          <p:nvSpPr>
            <p:cNvPr id="213" name="Rectangle 50"/>
            <p:cNvSpPr/>
            <p:nvPr/>
          </p:nvSpPr>
          <p:spPr>
            <a:xfrm>
              <a:off x="4343400" y="415908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1"/>
            <p:cNvSpPr/>
            <p:nvPr/>
          </p:nvSpPr>
          <p:spPr>
            <a:xfrm>
              <a:off x="4428000" y="4205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2519280" y="5649840"/>
            <a:ext cx="495360" cy="457200"/>
            <a:chOff x="2519280" y="5649840"/>
            <a:chExt cx="495360" cy="457200"/>
          </a:xfrm>
        </p:grpSpPr>
        <p:sp>
          <p:nvSpPr>
            <p:cNvPr id="216" name="Rectangle 20"/>
            <p:cNvSpPr/>
            <p:nvPr/>
          </p:nvSpPr>
          <p:spPr>
            <a:xfrm>
              <a:off x="251928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30880" y="569124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5"/>
          <p:cNvGrpSpPr/>
          <p:nvPr/>
        </p:nvGrpSpPr>
        <p:grpSpPr>
          <a:xfrm>
            <a:off x="3733920" y="5649840"/>
            <a:ext cx="495360" cy="457200"/>
            <a:chOff x="3733920" y="5649840"/>
            <a:chExt cx="495360" cy="457200"/>
          </a:xfrm>
        </p:grpSpPr>
        <p:sp>
          <p:nvSpPr>
            <p:cNvPr id="219" name="Rectangle 26"/>
            <p:cNvSpPr/>
            <p:nvPr/>
          </p:nvSpPr>
          <p:spPr>
            <a:xfrm>
              <a:off x="373392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7"/>
            <p:cNvSpPr/>
            <p:nvPr/>
          </p:nvSpPr>
          <p:spPr>
            <a:xfrm>
              <a:off x="3840840" y="568008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5724360" y="5661000"/>
            <a:ext cx="495360" cy="457200"/>
            <a:chOff x="5724360" y="5661000"/>
            <a:chExt cx="495360" cy="457200"/>
          </a:xfrm>
        </p:grpSpPr>
        <p:sp>
          <p:nvSpPr>
            <p:cNvPr id="222" name="Rectangle 50"/>
            <p:cNvSpPr/>
            <p:nvPr/>
          </p:nvSpPr>
          <p:spPr>
            <a:xfrm>
              <a:off x="5724360" y="5661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1"/>
            <p:cNvSpPr/>
            <p:nvPr/>
          </p:nvSpPr>
          <p:spPr>
            <a:xfrm>
              <a:off x="5789880" y="570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05"/>
          <p:cNvGrpSpPr/>
          <p:nvPr/>
        </p:nvGrpSpPr>
        <p:grpSpPr>
          <a:xfrm>
            <a:off x="3127320" y="5649840"/>
            <a:ext cx="495360" cy="457200"/>
            <a:chOff x="3127320" y="5649840"/>
            <a:chExt cx="495360" cy="457200"/>
          </a:xfrm>
        </p:grpSpPr>
        <p:sp>
          <p:nvSpPr>
            <p:cNvPr id="225" name="Rectangle 23"/>
            <p:cNvSpPr/>
            <p:nvPr/>
          </p:nvSpPr>
          <p:spPr>
            <a:xfrm>
              <a:off x="312732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7"/>
            <p:cNvSpPr/>
            <p:nvPr/>
          </p:nvSpPr>
          <p:spPr>
            <a:xfrm>
              <a:off x="3333600" y="585144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9"/>
          <p:cNvGrpSpPr/>
          <p:nvPr/>
        </p:nvGrpSpPr>
        <p:grpSpPr>
          <a:xfrm>
            <a:off x="6372360" y="5661000"/>
            <a:ext cx="495000" cy="457200"/>
            <a:chOff x="6372360" y="5661000"/>
            <a:chExt cx="495000" cy="457200"/>
          </a:xfrm>
        </p:grpSpPr>
        <p:sp>
          <p:nvSpPr>
            <p:cNvPr id="228" name="Rectangle 50"/>
            <p:cNvSpPr/>
            <p:nvPr/>
          </p:nvSpPr>
          <p:spPr>
            <a:xfrm>
              <a:off x="6372360" y="5661000"/>
              <a:ext cx="49500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437520" y="570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9"/>
          <p:cNvGrpSpPr/>
          <p:nvPr/>
        </p:nvGrpSpPr>
        <p:grpSpPr>
          <a:xfrm>
            <a:off x="4309920" y="5649840"/>
            <a:ext cx="495360" cy="457200"/>
            <a:chOff x="4309920" y="5649840"/>
            <a:chExt cx="495360" cy="457200"/>
          </a:xfrm>
        </p:grpSpPr>
        <p:sp>
          <p:nvSpPr>
            <p:cNvPr id="231" name="Rectangle 50"/>
            <p:cNvSpPr/>
            <p:nvPr/>
          </p:nvSpPr>
          <p:spPr>
            <a:xfrm>
              <a:off x="4309920" y="564984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1"/>
            <p:cNvSpPr/>
            <p:nvPr/>
          </p:nvSpPr>
          <p:spPr>
            <a:xfrm>
              <a:off x="4376520" y="5695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Cloud 117"/>
          <p:cNvSpPr/>
          <p:nvPr/>
        </p:nvSpPr>
        <p:spPr>
          <a:xfrm>
            <a:off x="6148440" y="2795760"/>
            <a:ext cx="2544840" cy="1339560"/>
          </a:xfrm>
          <a:prstGeom prst="pie">
            <a:avLst/>
          </a:prstGeom>
          <a:solidFill>
            <a:srgbClr val="bbe0e3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he subtraction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932360" y="4149720"/>
            <a:ext cx="720720" cy="457200"/>
            <a:chOff x="4932360" y="4149720"/>
            <a:chExt cx="720720" cy="457200"/>
          </a:xfrm>
        </p:grpSpPr>
        <p:sp>
          <p:nvSpPr>
            <p:cNvPr id="235" name="Rectangle 26"/>
            <p:cNvSpPr/>
            <p:nvPr/>
          </p:nvSpPr>
          <p:spPr>
            <a:xfrm>
              <a:off x="4932360" y="414972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7"/>
            <p:cNvSpPr/>
            <p:nvPr/>
          </p:nvSpPr>
          <p:spPr>
            <a:xfrm>
              <a:off x="5047920" y="417996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32360" y="5661000"/>
            <a:ext cx="720720" cy="457200"/>
            <a:chOff x="4932360" y="5661000"/>
            <a:chExt cx="720720" cy="457200"/>
          </a:xfrm>
        </p:grpSpPr>
        <p:sp>
          <p:nvSpPr>
            <p:cNvPr id="238" name="Rectangle 26"/>
            <p:cNvSpPr/>
            <p:nvPr/>
          </p:nvSpPr>
          <p:spPr>
            <a:xfrm>
              <a:off x="4932360" y="566100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5047920" y="569124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488-F16A-41BE-A9D8-3B58FC9F92C4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1220760" y="184464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lculate:     4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÷ 8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1"/>
          <p:cNvSpPr/>
          <p:nvPr/>
        </p:nvSpPr>
        <p:spPr>
          <a:xfrm>
            <a:off x="394920" y="2349360"/>
            <a:ext cx="80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good practice to put each value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5"/>
          <p:cNvGrpSpPr/>
          <p:nvPr/>
        </p:nvGrpSpPr>
        <p:grpSpPr>
          <a:xfrm>
            <a:off x="2546280" y="3438360"/>
            <a:ext cx="495360" cy="457200"/>
            <a:chOff x="2546280" y="3438360"/>
            <a:chExt cx="495360" cy="457200"/>
          </a:xfrm>
        </p:grpSpPr>
        <p:sp>
          <p:nvSpPr>
            <p:cNvPr id="249" name="Rectangle 26"/>
            <p:cNvSpPr/>
            <p:nvPr/>
          </p:nvSpPr>
          <p:spPr>
            <a:xfrm>
              <a:off x="2546280" y="34383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7"/>
            <p:cNvSpPr/>
            <p:nvPr/>
          </p:nvSpPr>
          <p:spPr>
            <a:xfrm>
              <a:off x="2656440" y="3468600"/>
              <a:ext cx="2494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9"/>
          <p:cNvGrpSpPr/>
          <p:nvPr/>
        </p:nvGrpSpPr>
        <p:grpSpPr>
          <a:xfrm>
            <a:off x="3152880" y="3438360"/>
            <a:ext cx="495360" cy="457200"/>
            <a:chOff x="3152880" y="3438360"/>
            <a:chExt cx="495360" cy="457200"/>
          </a:xfrm>
        </p:grpSpPr>
        <p:sp>
          <p:nvSpPr>
            <p:cNvPr id="252" name="Rectangle 20"/>
            <p:cNvSpPr/>
            <p:nvPr/>
          </p:nvSpPr>
          <p:spPr>
            <a:xfrm>
              <a:off x="3152880" y="34383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3264480" y="347976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49"/>
          <p:cNvGrpSpPr/>
          <p:nvPr/>
        </p:nvGrpSpPr>
        <p:grpSpPr>
          <a:xfrm>
            <a:off x="4716360" y="3429000"/>
            <a:ext cx="495360" cy="457200"/>
            <a:chOff x="4716360" y="3429000"/>
            <a:chExt cx="495360" cy="457200"/>
          </a:xfrm>
        </p:grpSpPr>
        <p:sp>
          <p:nvSpPr>
            <p:cNvPr id="255" name="Rectangle 50"/>
            <p:cNvSpPr/>
            <p:nvPr/>
          </p:nvSpPr>
          <p:spPr>
            <a:xfrm>
              <a:off x="4716360" y="3429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4800240" y="347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9"/>
          <p:cNvGrpSpPr/>
          <p:nvPr/>
        </p:nvGrpSpPr>
        <p:grpSpPr>
          <a:xfrm>
            <a:off x="5364000" y="3429000"/>
            <a:ext cx="495360" cy="457200"/>
            <a:chOff x="5364000" y="3429000"/>
            <a:chExt cx="495360" cy="457200"/>
          </a:xfrm>
        </p:grpSpPr>
        <p:sp>
          <p:nvSpPr>
            <p:cNvPr id="258" name="Rectangle 50"/>
            <p:cNvSpPr/>
            <p:nvPr/>
          </p:nvSpPr>
          <p:spPr>
            <a:xfrm>
              <a:off x="5364000" y="3429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5451120" y="3475080"/>
              <a:ext cx="2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Group 28" descr=""/>
          <p:cNvPicPr/>
          <p:nvPr/>
        </p:nvPicPr>
        <p:blipFill>
          <a:blip r:embed="rId2"/>
          <a:stretch/>
        </p:blipFill>
        <p:spPr>
          <a:xfrm>
            <a:off x="4456080" y="4084560"/>
            <a:ext cx="51768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9"/>
          <p:cNvGrpSpPr/>
          <p:nvPr/>
        </p:nvGrpSpPr>
        <p:grpSpPr>
          <a:xfrm>
            <a:off x="2546280" y="4784760"/>
            <a:ext cx="495360" cy="457200"/>
            <a:chOff x="2546280" y="4784760"/>
            <a:chExt cx="495360" cy="457200"/>
          </a:xfrm>
        </p:grpSpPr>
        <p:sp>
          <p:nvSpPr>
            <p:cNvPr id="262" name="Rectangle 20"/>
            <p:cNvSpPr/>
            <p:nvPr/>
          </p:nvSpPr>
          <p:spPr>
            <a:xfrm>
              <a:off x="2546280" y="47847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2661120" y="4826160"/>
              <a:ext cx="2494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9"/>
          <p:cNvGrpSpPr/>
          <p:nvPr/>
        </p:nvGrpSpPr>
        <p:grpSpPr>
          <a:xfrm>
            <a:off x="3122640" y="4784760"/>
            <a:ext cx="495360" cy="457200"/>
            <a:chOff x="3122640" y="4784760"/>
            <a:chExt cx="495360" cy="457200"/>
          </a:xfrm>
        </p:grpSpPr>
        <p:sp>
          <p:nvSpPr>
            <p:cNvPr id="265" name="Rectangle 50"/>
            <p:cNvSpPr/>
            <p:nvPr/>
          </p:nvSpPr>
          <p:spPr>
            <a:xfrm>
              <a:off x="3122640" y="47847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3207240" y="4830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716360" y="4797360"/>
            <a:ext cx="495360" cy="457200"/>
            <a:chOff x="4716360" y="4797360"/>
            <a:chExt cx="495360" cy="457200"/>
          </a:xfrm>
        </p:grpSpPr>
        <p:sp>
          <p:nvSpPr>
            <p:cNvPr id="268" name="Rectangle 50"/>
            <p:cNvSpPr/>
            <p:nvPr/>
          </p:nvSpPr>
          <p:spPr>
            <a:xfrm>
              <a:off x="4716360" y="47973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1"/>
            <p:cNvSpPr/>
            <p:nvPr/>
          </p:nvSpPr>
          <p:spPr>
            <a:xfrm>
              <a:off x="4800240" y="484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5364000" y="4797360"/>
            <a:ext cx="495360" cy="457200"/>
            <a:chOff x="5364000" y="4797360"/>
            <a:chExt cx="495360" cy="457200"/>
          </a:xfrm>
        </p:grpSpPr>
        <p:sp>
          <p:nvSpPr>
            <p:cNvPr id="271" name="Rectangle 50"/>
            <p:cNvSpPr/>
            <p:nvPr/>
          </p:nvSpPr>
          <p:spPr>
            <a:xfrm>
              <a:off x="5364000" y="47973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1"/>
            <p:cNvSpPr/>
            <p:nvPr/>
          </p:nvSpPr>
          <p:spPr>
            <a:xfrm>
              <a:off x="5451120" y="4843440"/>
              <a:ext cx="2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Group 28" descr=""/>
          <p:cNvPicPr/>
          <p:nvPr/>
        </p:nvPicPr>
        <p:blipFill>
          <a:blip r:embed="rId3"/>
          <a:stretch/>
        </p:blipFill>
        <p:spPr>
          <a:xfrm>
            <a:off x="3962520" y="5479920"/>
            <a:ext cx="523800" cy="4827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28" descr=""/>
          <p:cNvPicPr/>
          <p:nvPr/>
        </p:nvPicPr>
        <p:blipFill>
          <a:blip r:embed="rId4"/>
          <a:stretch/>
        </p:blipFill>
        <p:spPr>
          <a:xfrm>
            <a:off x="4608360" y="5479920"/>
            <a:ext cx="781200" cy="4827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851280" y="3429000"/>
            <a:ext cx="720720" cy="457200"/>
            <a:chOff x="3851280" y="3429000"/>
            <a:chExt cx="720720" cy="457200"/>
          </a:xfrm>
        </p:grpSpPr>
        <p:sp>
          <p:nvSpPr>
            <p:cNvPr id="276" name="Rectangle 26"/>
            <p:cNvSpPr/>
            <p:nvPr/>
          </p:nvSpPr>
          <p:spPr>
            <a:xfrm>
              <a:off x="3851280" y="342900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3966840" y="345924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851280" y="4797360"/>
            <a:ext cx="720720" cy="457200"/>
            <a:chOff x="3851280" y="4797360"/>
            <a:chExt cx="720720" cy="457200"/>
          </a:xfrm>
        </p:grpSpPr>
        <p:sp>
          <p:nvSpPr>
            <p:cNvPr id="279" name="Rectangle 26"/>
            <p:cNvSpPr/>
            <p:nvPr/>
          </p:nvSpPr>
          <p:spPr>
            <a:xfrm>
              <a:off x="3851280" y="479736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7"/>
            <p:cNvSpPr/>
            <p:nvPr/>
          </p:nvSpPr>
          <p:spPr>
            <a:xfrm>
              <a:off x="3966840" y="482760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364C-3BF0-4AAB-BFEF-8EB226AB1047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916280"/>
            <a:ext cx="4176720" cy="3054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0  Ex 7.1 p11 Ex 7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your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x 7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to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xt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8000" y="1916280"/>
            <a:ext cx="4176720" cy="3010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2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Nex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5300640"/>
            <a:ext cx="820728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5445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lete Homework Sheet 1 on or before 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FE9-8A76-428E-99AF-328C52F0DEF4}" type="datetime2"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riday, July 31,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057640"/>
            <a:ext cx="8497800" cy="139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084640"/>
            <a:ext cx="35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Write in Scientific Nota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1300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989000"/>
            <a:ext cx="410688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1989000"/>
            <a:ext cx="4033800" cy="28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 23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 Calculate  the follow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2060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ind the length 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5589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 0.00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85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4922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7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2852640"/>
            <a:ext cx="1368720" cy="108108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7885080" y="2924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596720" y="4005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588720" y="3213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 - 6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26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ythag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44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589720"/>
            <a:ext cx="136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 5692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5589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 0.0506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213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3500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378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306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40766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95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3  x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59500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692  x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6021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0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6520" cy="699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406728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tandard Form   Rec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7520" y="4194000"/>
            <a:ext cx="6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2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96120" y="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620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P la n e ta ry D a 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5736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S u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 s 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2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602"/>
                            </p:stCondLst>
                            <p:childTnLst>
                              <p:par>
                                <p:cTn id="9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animMotion origin="layout" path="M -2.77778E-006 -3.7037E-006 C -0.01337 -0.0199 -0.06718 -0.02268 -0.1151 0.01135 C -0.15607 0.07338 -0.18958 0.11065 -0.21962 0.31274 C -0.28802 0.16181 -0.29132 0.2507 -0.33298 0.23727 C -0.38524 0.23727 -0.47639 0.37315 -0.47639 0.52894 C -0.47639 0.4507 -0.50468 0.46621 -0.52795 0.45278 C -0.55416 0.45278 -0.58194 0.52616 -0.58194 0.60649 C -0.58194 0.56621 -0.58646 0.52616 -0.59965 0.52616 C -0.6125 0.52616 -0.63715 0.57292 -0.63715 0.61111 C -0.63715 0.59074 -0.64271 0.57755 -0.64913 0.57755 C -0.65225 0.57755 -0.66198 0.59769 -0.66198 0.61806 C -0.66198 0.60787 -0.66545 0.59769 -0.66892 0.59769 C -0.66892 0.59514 -0.67569 0.60787 -0.67569 0.61806 C -0.67569 0.61274 -0.67569 0.60787 -0.67916 0.60787 C -0.67916 0.61042 -0.68264 0.61297 -0.68264 0.61806 C -0.68264 0.61528 -0.68264 0.61274 -0.68264 0.61042 C -0.68611 0.61042 -0.68611 0.61297 -0.68611 0.61551 C -0.68923 0.61551 -0.68923 0.61297 -0.68923 0.61042 C -0.69271 0.61042 -0.70399 0.62662 -0.70399 0.6294 E">
                                      <p:cBhvr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1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702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Rot by="43200000">
                                      <p:cBhvr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233440" cy="214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620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 a n et a r 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E art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1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202"/>
                            </p:stCondLst>
                            <p:childTnLst>
                              <p:par>
                                <p:cTn id="12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2.22222E-006 1.48148E-006 C -0.07465 0.01481 -0.07622 0.04537 -0.07622 0.07546 C -0.07622 0.10324 -0.07552 0.13125 -0.0033 0.13125 C 0.06857 0.13125 0.09878 0.11435 0.09878 0.08657 C 0.09878 0.05648 0.06632 0.04537 -0.00573 0.06528 C -0.07674 0.08796 -0.10643 0.12315 -0.10643 0.15092 C -0.10643 0.17917 -0.07465 0.2044 -0.0033 0.2044 C 0.06857 0.2044 0.10555 0.18796 0.10555 0.15972 C 0.10555 0.13194 0.06632 0.11829 -0.00452 0.13866 C -0.07674 0.15903 -0.12934 0.19653 -0.12934 0.22454 C -0.12934 0.25486 -0.07465 0.27754 -0.00243 0.27754 C 0.06857 0.27754 0.11389 0.25231 0.11389 0.22199 C 0.11389 0.19676 0.06632 0.19167 -0.00452 0.20926 C -0.07552 0.22963 -0.17795 0.27407 -0.17795 0.30208 C -0.17795 0.32986 -0.07344 0.34815 -0.00243 0.34815 C 0.07083 0.34815 0.12222 0.32986 0.12222 0.30208 C 0.12222 0.27407 0.06753 0.26227 -0.0033 0.28264 C -0.07465 0.30278 -0.21285 0.34583 -0.21285 0.37315 C -0.21285 0.4037 -0.07344 0.41875 -0.00122 0.41875 C 0.07083 0.41875 0.12222 0.39629 0.12222 0.36875 C 0.12222 0.34143 0.06753 0.3331 -0.0033 0.35347 C -0.07465 0.37338 -0.29618 0.42153 -0.29618 0.44653 C -0.29618 0.47454 -0.07257 0.48958 -0.00122 0.48958 C 0.07083 0.48958 0.11719 0.47222 0.11719 0.44421 C 0.11719 0.41921 0.06857 0.40625 -0.0033 0.4243 C -0.07465 0.44421 -0.39792 0.49421 -0.39792 0.52199 C -0.39792 0.54722 -0.07257 0.56273 2.22222E-006 0.56273 C 0.07205 0.56273 0.11215 0.54329 0.11215 0.51528 C 0.11215 0.4875 0.06857 0.47754 -0.00243 0.49745 C -0.07344 0.51759 -0.63386 0.5919 -0.63281 0.61991 C -0.63195 0.64768 -0.07379 0.66875 -0.00122 0.66875 C 0.07083 0.66875 0.10555 0.6162 0.10555 0.58866 C 0.10555 0.56319 0.07083 0.54815 2.22222E-006 0.57083 E">
                                      <p:cBhvr>
                                        <p:cTn id="12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01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902"/>
                            </p:stCondLst>
                            <p:childTnLst>
                              <p:par>
                                <p:cTn id="138" nodeType="after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k.wav"/>
                                        </p:tgtEl>
                                      </p:cMediaNode>
                                    </p:audio>
                                    <p:animMotion origin="layout" path="M 1.11022E-016 -0.00046 L 0.09288 0.22569 L -0.05712 0.72801 L -0.30868 -0.08056 L -0.57708 0.7169 L -0.77049 0.29931 L -0.54705 -0.06944 L -0.25208 0.72593 L 1.11022E-016 -0.00046 Z">
                                      <p:cBhvr>
                                        <p:cTn id="139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341360"/>
            <a:ext cx="84250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70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701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701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7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979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How di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7720" y="31561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8640" y="317196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3156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3322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8920" y="434808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433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720" y="55404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32800" y="555624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6640" y="55404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38920" y="200484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19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101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01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7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7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101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8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86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98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200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212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42:12Z</dcterms:created>
  <dc:creator>Caroline</dc:creator>
  <dc:description/>
  <dc:language>en-US</dc:language>
  <cp:lastModifiedBy>Caroline</cp:lastModifiedBy>
  <dcterms:modified xsi:type="dcterms:W3CDTF">2009-04-30T11:34:59Z</dcterms:modified>
  <cp:revision>17</cp:revision>
  <dc:subject/>
  <dc:title>Slide 1</dc:title>
</cp:coreProperties>
</file>